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24F-8982-48A9-B1CC-04C2DCB1D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C017-791B-4768-AD5B-E73DB1C7B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7B04F-7A48-4E5E-A3DD-454F30B5B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214F23-0748-4499-B037-D2BA0F1B2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858603-6B35-4EA2-91BB-A7CD037A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AD506C-1E2A-4905-9F45-C5B8472A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BD446-0CAE-44F8-A26B-2DF94F3F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A9964-8C51-4173-818D-12774E03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45282B-0568-4089-ADAB-3B17DD5C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8CF70-06B9-4D09-BF2D-9599A3319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0B228-8870-4607-84A7-C3198716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300B-024D-43D0-BA9B-47FE72E65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6977-FBBE-4F0C-8382-F314220F9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936CA-578B-4395-BEE8-F6E83F36C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D6E3-9D7A-4FA1-9406-D7A341689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98A8-5D60-48F6-A138-9847F51C3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19BAD-2475-4D97-BDF4-867F1D91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4563B-4B9C-42AC-8FFD-E0FF4BF5B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2E25-5BD2-481F-AED3-CA00ECA3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122A-9D36-4834-875B-BA188599B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CA39-97E8-496A-89A1-441D49FFE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CBE8-0B6A-45E3-8758-63D16752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3882C-DCD7-4E44-AE2D-C7BEBC34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CAB1-C8BF-463D-B06F-7305005B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03884-463C-49F7-B426-09121F6C7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9E4A-846F-4494-9A5A-8926BE8B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B5E75-6CBC-493D-BABF-14E460C9D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328D3B-3EE8-40CD-838D-A42095691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AF476-4EE9-4DC1-BE82-47EF370AE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3C1199-8DEC-427F-A3C8-F98E130C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26490-3E82-4E11-A527-7829439E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22C9-2370-403C-B207-5FA8B8EE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DD3FBE-2662-4D48-A5CA-F83AB5E46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5AFDF-5FBD-4624-93DE-3650D119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91903-6F70-4AEF-A651-6139408B6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F727B-7B83-4CBC-A83A-ACD86031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271EC-EB71-44C7-81D4-26E43B548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D82F7-6B3A-4729-995A-2CCFF05DA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3730E2-7862-4C38-B56D-DBEDF8D9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0CCA-73EE-4F7F-96D1-557C4412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67E67-4E13-4F14-AB5F-5DA64DCBE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9D920-ECEB-4007-B0A3-F21E11CA9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0833-DD2F-4A38-9F1C-FBCAB61A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DFE7-E91C-4E32-AAA9-71BD92E8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EE5558-5AD8-46B8-9394-421C408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B46B2-8CD7-4A02-B4D2-ED716752F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282BE-8AB5-4D87-AB26-694D5FDFE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27989-C537-4BA3-A23D-92A1B3EE7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7E7DC-8F46-4C21-9FED-81514945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F958-1C8D-408A-A455-E17DEAC21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215FAE-F92C-4BB7-913E-B0C912FB7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ACB1B-5617-4C81-AAA7-6D2121FD5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1F9E6D-6D85-41CD-8FE2-E43B4927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44BF-332A-486B-9A69-B865F8180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AFC093-9275-4A26-8759-EDAAFC5F9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70D44-0A6F-472D-AFDD-0BBA20CFD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BD011D-8E73-4490-A5AC-84701265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1FDC-57C6-4F25-B58F-6D25148B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13849-55D2-4154-B3B8-66393F7D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E0B1E5-15BD-4503-8CDD-B3069A19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C8B5D5-AE8E-431A-8C99-5DA41F677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81318-E6F0-4EC7-85B6-D936814CE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76D31C-472F-41C8-AA0B-083829544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3206A-1664-453E-9FF9-9810C628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566-00F9-4FD3-94B9-770D71845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12744-4731-4919-A990-77CDF9F95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C8BD7F-DC00-42D7-BF14-32F3461F1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8B630-7331-42C5-B715-8E2538762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053B4-9785-4365-A7D0-539716744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05DF8-6B2D-452A-A62A-5B9D310E8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BA36A6-208F-4544-9291-CB2D3E30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851E5A-6324-4981-8A87-DF3C91D7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26760-7764-4FB4-B618-C05DD9CED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6C333-920E-4310-AA4D-A16C98E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866764-41C0-48C8-A023-ABE5EE739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228-7509-4E27-84BA-A6104D00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3236B-DC0E-4400-B9BD-5A54540B4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1EC76-75C6-4D1D-9075-C07952C4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B49DA8-93B1-46DB-9FB9-72A0FECB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38C2F-B7D7-40C6-9D7E-4C263858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D5330C-E38F-418B-A51D-8C204DFFB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416C7F-7DCA-41B5-A252-C1D140A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AB8B7-DC3E-48DB-857B-C3C715DB1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0B0C61-CAC4-456C-9AC5-F9911CC2B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8BC43C-9054-4B39-9544-E55ADD633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9F10C-3FF8-4862-A17C-5762F53E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8742-F06A-40F5-9EA2-1AAC27EC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6F4B83-E6DE-4FE3-BB3F-F875DD7BB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C34EC-7C2A-401E-837B-A8AB96A4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199BF5-031D-4AFC-A796-B5162B0A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F96E1B-2C27-4220-B73F-464DD13E2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C9669-2527-4628-B70F-0A066E4D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24D207-46F3-479D-A779-34A9E9C3A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D5B055-B282-4F81-A04F-1C280A022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CF166-1EA0-40A2-A622-F72EC5A8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E3FEBD-8635-4816-9356-0110B0C75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E0DE4-7E37-4CC6-A04D-385CEC19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C346-BE98-49B8-8D9C-A931D3C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9040" y="569880"/>
            <a:ext cx="7756560" cy="48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0A943-8558-49F3-AA52-7702B9630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AD523-51FE-497F-9C6F-3DE77D2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F51C67-D0D1-4A52-81CF-D2982D52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3E1A30-32A5-49D4-8B36-810F67461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98400" y="4273200"/>
            <a:ext cx="774720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904E5-A2DE-4466-B216-19E30260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68120" y="224748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9840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668120" y="4273200"/>
            <a:ext cx="378036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40C057-3934-4A3B-9189-A81E1CA5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1812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37480" y="224748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9840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1812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37480" y="4273200"/>
            <a:ext cx="2494440" cy="18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A8506F-EA0D-446D-972F-D5BC9F035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85B14-4332-4C46-BB88-11D4CDE42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1045E8-1B72-4177-A408-853E8C0D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163780-8E80-4B6E-96F0-9EAF0D3C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B3D19-A02C-4728-B349-C6A518F79571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ov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Group 8" descr=""/>
          <p:cNvPicPr/>
          <p:nvPr/>
        </p:nvPicPr>
        <p:blipFill>
          <a:blip r:embed="rId4"/>
          <a:stretch/>
        </p:blipFill>
        <p:spPr>
          <a:xfrm>
            <a:off x="1152360" y="2627280"/>
            <a:ext cx="6864480" cy="15908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ce9c6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ece9c6"/>
              </a:solidFill>
              <a:latin typeface="Book 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ffffff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ce9c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81CC-1743-4ADA-88F9-394904FB3215}" type="slidenum">
              <a:rPr b="0" lang="en-US" sz="1200" spc="-1" strike="noStrike">
                <a:solidFill>
                  <a:srgbClr val="ece9c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8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90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91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2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93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58187-6882-4FB9-8DA6-6698E0D7A31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6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pic>
        <p:nvPicPr>
          <p:cNvPr id="138" name="Picture 7" descr="CoverOverlay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7"/>
          <p:cNvGrpSpPr/>
          <p:nvPr/>
        </p:nvGrpSpPr>
        <p:grpSpPr>
          <a:xfrm>
            <a:off x="1172880" y="2887560"/>
            <a:ext cx="6778440" cy="916920"/>
            <a:chOff x="1172880" y="2887560"/>
            <a:chExt cx="6778440" cy="916920"/>
          </a:xfrm>
        </p:grpSpPr>
        <p:sp>
          <p:nvSpPr>
            <p:cNvPr id="140" name="TextBox 9"/>
            <p:cNvSpPr/>
            <p:nvPr/>
          </p:nvSpPr>
          <p:spPr>
            <a:xfrm>
              <a:off x="4308840" y="288756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1" name="Straight Connector 10"/>
            <p:cNvSpPr/>
            <p:nvPr/>
          </p:nvSpPr>
          <p:spPr>
            <a:xfrm flipH="1" flipV="1">
              <a:off x="1172880" y="343224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42" name="Straight Connector 11"/>
            <p:cNvSpPr/>
            <p:nvPr/>
          </p:nvSpPr>
          <p:spPr>
            <a:xfrm flipH="1" flipV="1">
              <a:off x="4831920" y="343368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D5309-5868-4382-8EA6-F9545E740993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85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187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188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89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190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478B-DE92-40C0-9BE9-7D8A7F1E3BFA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2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3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35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36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7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38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3436-4BA7-46B2-B915-332F3B6EF73F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0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8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284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5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286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799A9-E925-4B9F-9582-2614FB4F75C2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8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29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31" name="Group 7"/>
          <p:cNvGrpSpPr/>
          <p:nvPr/>
        </p:nvGrpSpPr>
        <p:grpSpPr>
          <a:xfrm>
            <a:off x="1172880" y="1392120"/>
            <a:ext cx="6778440" cy="916920"/>
            <a:chOff x="1172880" y="1392120"/>
            <a:chExt cx="6778440" cy="916920"/>
          </a:xfrm>
        </p:grpSpPr>
        <p:sp>
          <p:nvSpPr>
            <p:cNvPr id="332" name="TextBox 8"/>
            <p:cNvSpPr/>
            <p:nvPr/>
          </p:nvSpPr>
          <p:spPr>
            <a:xfrm>
              <a:off x="4308840" y="139212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3" name="Straight Connector 9"/>
            <p:cNvSpPr/>
            <p:nvPr/>
          </p:nvSpPr>
          <p:spPr>
            <a:xfrm flipH="1" flipV="1">
              <a:off x="1172880" y="193680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34" name="Straight Connector 10"/>
            <p:cNvSpPr/>
            <p:nvPr/>
          </p:nvSpPr>
          <p:spPr>
            <a:xfrm flipH="1" flipV="1">
              <a:off x="4831920" y="1933560"/>
              <a:ext cx="3119400" cy="144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22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ftr" idx="23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 type="sldNum" idx="24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79029-EB0A-4E3E-A8C3-939293943A1D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Rectangle 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7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grpSp>
        <p:nvGrpSpPr>
          <p:cNvPr id="379" name="Group 7"/>
          <p:cNvGrpSpPr/>
          <p:nvPr/>
        </p:nvGrpSpPr>
        <p:grpSpPr>
          <a:xfrm>
            <a:off x="6193440" y="601560"/>
            <a:ext cx="916920" cy="5481720"/>
            <a:chOff x="6193440" y="601560"/>
            <a:chExt cx="916920" cy="5481720"/>
          </a:xfrm>
        </p:grpSpPr>
        <p:sp>
          <p:nvSpPr>
            <p:cNvPr id="380" name="TextBox 8"/>
            <p:cNvSpPr/>
            <p:nvPr/>
          </p:nvSpPr>
          <p:spPr>
            <a:xfrm rot="5400000">
              <a:off x="6374880" y="2914200"/>
              <a:ext cx="55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dba455"/>
                  </a:solidFill>
                  <a:latin typeface="Wingdings"/>
                  <a:ea typeface="Wingdings"/>
                </a:rPr>
                <a:t></a:t>
              </a:r>
              <a:endParaRPr b="0" lang="en-US" sz="54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1" name="Straight Connector 9"/>
            <p:cNvSpPr/>
            <p:nvPr/>
          </p:nvSpPr>
          <p:spPr>
            <a:xfrm flipV="1">
              <a:off x="6566040" y="6015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  <p:sp>
          <p:nvSpPr>
            <p:cNvPr id="382" name="Straight Connector 10"/>
            <p:cNvSpPr/>
            <p:nvPr/>
          </p:nvSpPr>
          <p:spPr>
            <a:xfrm flipV="1">
              <a:off x="6562800" y="3612960"/>
              <a:ext cx="1440" cy="2470320"/>
            </a:xfrm>
            <a:prstGeom prst="line">
              <a:avLst/>
            </a:prstGeom>
            <a:ln w="12600">
              <a:solidFill>
                <a:srgbClr val="dba4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Book Antiqua"/>
              </a:endParaRPr>
            </a:p>
          </p:txBody>
        </p:sp>
      </p:grp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lick to edit the title text format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2" marL="114300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3" marL="150804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4" marL="1828800" indent="-31896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5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6" marL="1828800" indent="-318960">
              <a:spcBef>
                <a:spcPts val="601"/>
              </a:spcBef>
              <a:buClr>
                <a:srgbClr val="000000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3600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1610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638400" y="61610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5d1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E7071-03FD-42C0-ADFB-C16DA0546927}" type="slidenum">
              <a:rPr b="0" lang="en-US" sz="1200" spc="-1" strike="noStrike">
                <a:solidFill>
                  <a:srgbClr val="895d1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csenchuk@hotmail.com" TargetMode="Externa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YCMA – 905 934-9622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olice (NRPS) – 905 688-4111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irefighter – 905 684-4311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Tourism Niagara – 905 984-3626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peech Pathology – Ms. Senchuk – </a:t>
            </a:r>
            <a:r>
              <a:rPr b="0" lang="en-US" sz="2400" spc="-1" strike="noStrike" u="sng">
                <a:solidFill>
                  <a:srgbClr val="cc9900"/>
                </a:solidFill>
                <a:uFillTx/>
                <a:latin typeface="Book Antiqua"/>
                <a:hlinkClick r:id="rId1"/>
              </a:rPr>
              <a:t>csenchuk@hotmail.com</a:t>
            </a: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 May 25</a:t>
            </a:r>
            <a:r>
              <a:rPr b="0" lang="en-US" sz="2400" spc="-1" strike="noStrike" baseline="30000">
                <a:solidFill>
                  <a:srgbClr val="262626"/>
                </a:solidFill>
                <a:latin typeface="Book Antiqua"/>
              </a:rPr>
              <a:t>th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rtist Trisha Romance – 1800 667-8525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Advantage Music and Video – 905 318 2882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Balance Fitness Studio, Virgil – 905 468-5007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Contact Idea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4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VP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rincipa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Chaplai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Special Needs Teacher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Wine Industry (winemakers, restaurants)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People who own their own business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Florists (Cathy Martin Florist 905 468-7557)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Mechanic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53880" indent="-35388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Book Antiqua"/>
              </a:rPr>
              <a:t>(Car) salesman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More Contact Idea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4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Title 1" descr=""/>
          <p:cNvPicPr/>
          <p:nvPr/>
        </p:nvPicPr>
        <p:blipFill>
          <a:blip r:embed="rId1"/>
          <a:stretch/>
        </p:blipFill>
        <p:spPr>
          <a:xfrm>
            <a:off x="1182600" y="1390680"/>
            <a:ext cx="6778800" cy="211464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1371600" y="37666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698400" y="2247480"/>
            <a:ext cx="7747200" cy="43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GOAL is something you want to accomplish, or a place in your life that you want to get to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short-term goal is something you aim to do in the near future. 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A long-term goal looks farther into the future for the date of accomplishment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You need an ACTION PLAN, or steps that you will take, to achieve your goal.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lnSpc>
                <a:spcPct val="90000"/>
              </a:lnSpc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4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4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698400" y="2247480"/>
            <a:ext cx="77472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Goals should be: 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Reachable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	</a:t>
            </a: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Meaningful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marL="365040" indent="-365040">
              <a:spcBef>
                <a:spcPts val="601"/>
              </a:spcBef>
              <a:buClr>
                <a:srgbClr val="873624"/>
              </a:buClr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62626"/>
                </a:solidFill>
                <a:latin typeface="Book Antiqua"/>
              </a:rPr>
              <a:t>Goals:</a:t>
            </a:r>
            <a:endParaRPr b="0" lang="en-US" sz="24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bring you to action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give you purpos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give you confidence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lvl="1" marL="776160" indent="-365040">
              <a:spcBef>
                <a:spcPts val="550"/>
              </a:spcBef>
              <a:buClr>
                <a:srgbClr val="873624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build your self-esteem (through the achievement of your goals)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wipe dir="l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" dur="500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7" dur="500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2" dur="500"/>
                                        <p:tgtEl>
                                          <p:spTgt spid="4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4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4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7" dur="500"/>
                                        <p:tgtEl>
                                          <p:spTgt spid="4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2" dur="500"/>
                                        <p:tgtEl>
                                          <p:spTgt spid="4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698400" y="2247480"/>
            <a:ext cx="77472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Decide on the goals you have and list them. Write them down in a notebook so you can keep track of them.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Develop a workable action plan to achieve your goals.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Evaluate your progress – are you completing the action steps? Are you recording your progress in a notebook? Have you accomplished your goals?</a:t>
            </a:r>
            <a:br>
              <a:rPr sz="2200"/>
            </a:b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  <a:p>
            <a:pPr marL="434160" indent="-434160">
              <a:lnSpc>
                <a:spcPct val="80000"/>
              </a:lnSpc>
              <a:spcBef>
                <a:spcPts val="550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262626"/>
                </a:solidFill>
                <a:latin typeface="Book Antiqua"/>
              </a:rPr>
              <a:t>Revise your goals and plans. After analysing how you are doing, you might need to revise your goals and action steps.</a:t>
            </a:r>
            <a:endParaRPr b="0" lang="en-US" sz="22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How To Set Short-Term Goals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fade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4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4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4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4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 txBox="1"/>
          <p:nvPr/>
        </p:nvSpPr>
        <p:spPr>
          <a:xfrm>
            <a:off x="151920" y="2247480"/>
            <a:ext cx="8915400" cy="43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Count the Cost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What will it require to achieve this goal? Having counted the cost – count the benefits!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Put it in Pen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A goal written is 10 times more powerful.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 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Just Do It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STOP PROCRASTINATING!! Just start working towards your goals!!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Use Momentous Moments</a:t>
            </a: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: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Certain moments in life contain momentum and power. The key is to use these moments in goal setting.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  <a:p>
            <a:pPr marL="429480" indent="-429480">
              <a:lnSpc>
                <a:spcPct val="80000"/>
              </a:lnSpc>
              <a:spcBef>
                <a:spcPts val="476"/>
              </a:spcBef>
              <a:buClr>
                <a:srgbClr val="873624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 u="sng">
                <a:solidFill>
                  <a:srgbClr val="262626"/>
                </a:solidFill>
                <a:uFillTx/>
                <a:latin typeface="Book Antiqua"/>
              </a:rPr>
              <a:t>Rope It Up!!</a:t>
            </a:r>
            <a:br>
              <a:rPr sz="1900"/>
            </a:br>
            <a:r>
              <a:rPr b="1" lang="en-GB" sz="1900" spc="-1" strike="noStrike">
                <a:solidFill>
                  <a:srgbClr val="262626"/>
                </a:solidFill>
                <a:latin typeface="Book Antiqua"/>
              </a:rPr>
              <a:t>You will accomplish much more in life if you will rope up and borrow strength from others.</a:t>
            </a:r>
            <a:endParaRPr b="0" lang="en-US" sz="1900" spc="-1" strike="noStrike">
              <a:solidFill>
                <a:srgbClr val="262626"/>
              </a:solidFill>
              <a:latin typeface="Book Antiqu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9040" y="569880"/>
            <a:ext cx="7756560" cy="10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The 5 Keys To </a:t>
            </a:r>
            <a:br>
              <a:rPr sz="5400"/>
            </a:br>
            <a:r>
              <a:rPr b="0" lang="en-US" sz="5400" spc="-1" strike="noStrike">
                <a:solidFill>
                  <a:srgbClr val="895d1d"/>
                </a:solidFill>
                <a:latin typeface="Book Antiqua"/>
              </a:rPr>
              <a:t>Goal-Setting</a:t>
            </a:r>
            <a:endParaRPr b="0" lang="en-US" sz="5400" spc="-1" strike="noStrike">
              <a:solidFill>
                <a:srgbClr val="895d1d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2:23:54Z</dcterms:created>
  <dc:creator>Biega, Sarah</dc:creator>
  <dc:description/>
  <dc:language>en-US</dc:language>
  <cp:lastModifiedBy>DEnis Morris</cp:lastModifiedBy>
  <dcterms:modified xsi:type="dcterms:W3CDTF">2012-05-15T13:07:26Z</dcterms:modified>
  <cp:revision>2</cp:revision>
  <dc:subject/>
  <dc:title>Chapter 3 - Goals</dc:title>
</cp:coreProperties>
</file>